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0.gif" ContentType="image/gif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27.png" ContentType="image/png"/>
  <Override PartName="/ppt/media/image15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D2B3-E77B-46FE-819C-0C91CB08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AA5B-9919-4476-9F67-EF987BE4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C792-F75A-4EFE-9157-B12F181D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97A9-8EB0-498E-8429-03CF6437D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E5F2-4E60-4EA0-B626-9A27EA7C4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D13E-40E6-4418-8982-2BB5FA89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5E3B-7AFF-4AAD-A5BC-FCFFD301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602E-CC76-4878-9712-18F2B3CD4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96A4-B20E-43DF-8D98-151110A3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5665-842C-44FA-B920-012455DB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74BB-D1B2-499D-A263-A5A2A574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E9AD-CDE3-477B-A380-CC166ADF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2A48-990C-425E-BF3B-E537203C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1C46-C9A1-4DEE-B6CC-8B0BE6FC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6661-4A4A-4327-AD94-F309829F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51AF-5DA5-468C-8608-F9ECA5138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F3A7-69EC-4945-AE55-98E70A113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E417-AF33-4BAD-A3C3-64F9EBF6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E89A-9E85-4353-84FD-5A79DF8F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6C60-4D15-4774-9353-A10950EF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F591-E429-44C4-A4B8-E6E14716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B372-AEF5-4666-80B9-FE3DC1B8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4094-E139-48E8-910A-A24378F3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E011-27AF-4D2C-A0AD-C2B6F24F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CDB6-A64C-4E3A-9CA2-614EC2BE55F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9F97-0F8E-46AC-9590-2F6C679D63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88CF-3427-44C2-A1FF-526BEBEB385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E5F9-98FC-42A8-A525-D9F625B961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journalism.au.com/global" TargetMode="External"/><Relationship Id="rId2" Type="http://schemas.openxmlformats.org/officeDocument/2006/relationships/hyperlink" Target="http://www.ejournalism.au.com/global" TargetMode="External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journ.ru.ac.za/review/" TargetMode="External"/><Relationship Id="rId2" Type="http://schemas.openxmlformats.org/officeDocument/2006/relationships/hyperlink" Target="http://journ.ru.ac.za/review/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msah.uq.edu.au/mia/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jreview.info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earch.informit.com.au/browseJournalTitle;res=E-LIBRARY;issn=1326-365X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jea.org.au/journal.htm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uq.edu.au/journ-comm/?id=5755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ccecff"/>
                </a:solidFill>
                <a:latin typeface="Arial"/>
              </a:rPr>
              <a:t>Publishing your research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Pacific Journalism Review and other journal outl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ffffff"/>
                </a:solidFill>
                <a:latin typeface="Arial"/>
              </a:rPr>
              <a:t>Presented by Dr David Rob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1800" spc="-1" strike="noStrike">
                <a:solidFill>
                  <a:srgbClr val="ffffff"/>
                </a:solidFill>
                <a:latin typeface="Arial"/>
              </a:rPr>
              <a:t>JEANZ, Wintec, 8 December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68360" y="6021360"/>
            <a:ext cx="3672000" cy="4492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6804000" y="4011480"/>
            <a:ext cx="199548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0920" y="980640"/>
            <a:ext cx="7846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755640" y="2467080"/>
            <a:ext cx="7561440" cy="42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728720" y="42840"/>
            <a:ext cx="568656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10920" y="980640"/>
            <a:ext cx="7846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ccecff"/>
                </a:solidFill>
                <a:latin typeface="Arial"/>
              </a:rPr>
              <a:t>Global Media Journ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755640" y="2467080"/>
            <a:ext cx="7561440" cy="42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ustralian edition (inc. eJournali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Central Queensland Univers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Online publication (frequ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Refereed jour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‘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ddresses diverse interests of media and journalism scholars, researchers, teachers, institutions on international communication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First edition devoted to free speech in Austral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vailable online at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www.ejournalism.au</a:t>
            </a:r>
            <a:r>
              <a:rPr b="0" lang="en-NZ" sz="24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/com/global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Editor: Professor Alan Kn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7269120" y="4797360"/>
            <a:ext cx="18748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0920" y="980640"/>
            <a:ext cx="7846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55640" y="2467080"/>
            <a:ext cx="7561440" cy="42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29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0920" y="980640"/>
            <a:ext cx="7846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ccecff"/>
                </a:solidFill>
                <a:latin typeface="Arial"/>
              </a:rPr>
              <a:t>Rhodes Journalism Review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755640" y="2467080"/>
            <a:ext cx="7561440" cy="42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Department of Journalism &amp; Media Studies  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</a:rPr>
              <a:t>(Rhodes University, S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Glossy magazine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Focus on South African and international quality journalism, photojournalism and analys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Online ed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journ.ru.ac.za</a:t>
            </a:r>
            <a:r>
              <a:rPr b="0" lang="en-NZ" sz="2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/review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Editor: Anthea Gar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5940360" y="4724280"/>
            <a:ext cx="223200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0920" y="980640"/>
            <a:ext cx="7846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55640" y="2467080"/>
            <a:ext cx="7561440" cy="42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40216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0920" y="980640"/>
            <a:ext cx="7846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ccecff"/>
                </a:solidFill>
                <a:latin typeface="Arial"/>
              </a:rPr>
              <a:t>Media International Australia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755640" y="2467080"/>
            <a:ext cx="7561440" cy="42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University of Queens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Quarter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Refereed jou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Special edition: ‘A Clever Little Country? Cultural Change and Identity in New Zealand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heme editors: Mary Griffiths                     and Geoff Lea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Full text available on web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5516640"/>
            <a:ext cx="24494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10920" y="980640"/>
            <a:ext cx="7846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755640" y="2467080"/>
            <a:ext cx="7561440" cy="42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700280" y="743040"/>
            <a:ext cx="574344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0920" y="980640"/>
            <a:ext cx="7846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ccecff"/>
                </a:solidFill>
                <a:latin typeface="Arial"/>
              </a:rPr>
              <a:t>Pacific Journalism Review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755640" y="2467080"/>
            <a:ext cx="7561440" cy="42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School of Communication Studies </a:t>
            </a:r>
            <a:r>
              <a:rPr b="0" lang="en-NZ" sz="900" spc="-1" strike="noStrike">
                <a:solidFill>
                  <a:srgbClr val="ffffff"/>
                </a:solidFill>
                <a:latin typeface="Arial"/>
              </a:rPr>
              <a:t>(AUT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wice a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Refereed jour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‘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Research into Asia-Pacific, Australian and New Zealand journalism theory and practice’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‘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lso has a focus on cultural politics of                   the media and indigenous culture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Full text available on Ebsco                   Communication and Mass Media Complete     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Editor: A/Prof David Rob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164360" y="4437000"/>
            <a:ext cx="17175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10920" y="980640"/>
            <a:ext cx="7846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755640" y="2467080"/>
            <a:ext cx="7561440" cy="42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340000" y="476280"/>
            <a:ext cx="1396800" cy="20318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3564000" y="1628640"/>
            <a:ext cx="1328760" cy="18939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4788000" y="2637000"/>
            <a:ext cx="1328760" cy="18716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940360" y="3500280"/>
            <a:ext cx="1476360" cy="20876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7308720" y="4437000"/>
            <a:ext cx="1484280" cy="20890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179280" y="3616200"/>
            <a:ext cx="411156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10920" y="980640"/>
            <a:ext cx="7846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755640" y="2467080"/>
            <a:ext cx="7561440" cy="42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71640" y="0"/>
            <a:ext cx="72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840" y="380880"/>
            <a:ext cx="900432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10920" y="980640"/>
            <a:ext cx="7846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755640" y="2467080"/>
            <a:ext cx="7561440" cy="42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419800" cy="674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10920" y="980640"/>
            <a:ext cx="7846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755640" y="2467080"/>
            <a:ext cx="7561440" cy="42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448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10920" y="980640"/>
            <a:ext cx="7846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755640" y="2467080"/>
            <a:ext cx="7561440" cy="42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62932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0920" y="980640"/>
            <a:ext cx="7846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755640" y="2467080"/>
            <a:ext cx="7561440" cy="42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54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10920" y="980640"/>
            <a:ext cx="7846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755640" y="2467080"/>
            <a:ext cx="7561440" cy="42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83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0920" y="980640"/>
            <a:ext cx="7846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ccecff"/>
                </a:solidFill>
                <a:latin typeface="Arial"/>
              </a:rPr>
              <a:t>Why publish?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755640" y="2133360"/>
            <a:ext cx="756144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Research and critique part of the terri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Analysis of media tr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Research informs tea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Contribution to media deb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Quality control – blind peer re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Journal publication needed for RMS and PBRF portfol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0920" y="980640"/>
            <a:ext cx="7846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ccecff"/>
                </a:solidFill>
                <a:latin typeface="Arial"/>
              </a:rPr>
              <a:t>Where to publish?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55640" y="2467080"/>
            <a:ext cx="7561440" cy="42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Journalism journ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AsiaPacific MediaEduca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Australian Journalism Revi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Australian Studies in Journalis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Global Media Journal (onlin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Pacific Journalism Review (N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Rhodes Journalism Revi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Media studies journ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Continuum: Journal of Media and Cultural Stud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Feminist Media Stud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Journalism and Mass Communication Quarter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Journalism: Theory and Prac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Media International Austral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Social science journ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10920" y="980640"/>
            <a:ext cx="7846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ccecff"/>
                </a:solidFill>
                <a:latin typeface="Arial"/>
              </a:rPr>
              <a:t>AsiaPacific MediaEducator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755640" y="2467080"/>
            <a:ext cx="7561440" cy="42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School of Journalism and Creative Writing </a:t>
            </a:r>
            <a:r>
              <a:rPr b="0" lang="en-NZ" sz="1000" spc="-1" strike="noStrike">
                <a:solidFill>
                  <a:srgbClr val="ffffff"/>
                </a:solidFill>
                <a:latin typeface="Arial"/>
              </a:rPr>
              <a:t>(UW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wice a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Refereed jou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‘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ims to generate dialogue among media educators, researchers and practitioners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‘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Publishes informed analysis of media production and texts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Full text available on </a:t>
            </a:r>
            <a:r>
              <a:rPr b="0" lang="en-NZ" sz="2800" spc="-1" strike="noStrike" u="sng">
                <a:solidFill>
                  <a:srgbClr val="99ff99"/>
                </a:solidFill>
                <a:uFillTx/>
                <a:latin typeface="Arial"/>
                <a:hlinkClick r:id="rId1"/>
              </a:rPr>
              <a:t>Inform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Editor: Dr Eric Lo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7520040" y="4552920"/>
            <a:ext cx="16239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0920" y="980640"/>
            <a:ext cx="7846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2467080"/>
            <a:ext cx="7561440" cy="42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715000" cy="71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10920" y="980640"/>
            <a:ext cx="7846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ccecff"/>
                </a:solidFill>
                <a:latin typeface="Arial"/>
              </a:rPr>
              <a:t>Australian Journalism Review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755640" y="2467080"/>
            <a:ext cx="7561440" cy="42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Journalism Education Association (JE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wice a year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Refereed jou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‘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Welcomes articles on journalism practice and education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Full text available soon on Ebs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Editor:                                                     A/Prof Ian Rich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62440" y="5572080"/>
            <a:ext cx="43815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0920" y="980640"/>
            <a:ext cx="7846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755640" y="2467080"/>
            <a:ext cx="7561440" cy="42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24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332000" y="333360"/>
            <a:ext cx="6335640" cy="60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10920" y="980640"/>
            <a:ext cx="78469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ccecff"/>
                </a:solidFill>
                <a:latin typeface="Arial"/>
              </a:rPr>
              <a:t>Australian Studies in Journalism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755640" y="2467080"/>
            <a:ext cx="7561440" cy="42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School of Journalism &amp; Communication </a:t>
            </a:r>
            <a:r>
              <a:rPr b="0" lang="en-NZ" sz="1600" spc="-1" strike="noStrike">
                <a:solidFill>
                  <a:srgbClr val="ffffff"/>
                </a:solidFill>
                <a:latin typeface="Arial"/>
              </a:rPr>
              <a:t>(UQ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Twice a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Refereed jou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‘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Dedicated to promoting research and scholarship on journalism and news         media in Australia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Full text available from University of Queens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bstracts available on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Editor: Dr Rod Kirkpatr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4365720"/>
            <a:ext cx="17557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6:32:21Z</dcterms:created>
  <dc:creator>AUT</dc:creator>
  <dc:description/>
  <dc:language>en-US</dc:language>
  <cp:lastModifiedBy>AUT</cp:lastModifiedBy>
  <dcterms:modified xsi:type="dcterms:W3CDTF">2005-12-07T05:52:00Z</dcterms:modified>
  <cp:revision>56</cp:revision>
  <dc:subject/>
  <dc:title>Pacific Journalism  Review</dc:title>
</cp:coreProperties>
</file>